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6B1-BE48-449F-920C-C9915909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AD8-CE13-4518-B07E-2CF6E112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478-F09E-48AA-8EDD-57EEE82B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F7B-A82D-439C-AB98-5D7B6855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8B26C-16A6-4290-876D-0AEC4989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2064A-D5BE-4B83-A4ED-1E8EBEE3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383C4-5279-45E0-9B33-BF85C001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D193B-036E-4EEE-AB1A-BB210DE5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760EA-6BFD-4D76-97AD-D0AE362F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BC7D1-6BDE-4196-BB02-B4550CA1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2A866-1877-4F8E-9437-2639B72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D70-F592-48C9-AAE6-3CDB69FA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097B2-3261-4CA7-887F-FB9D19F4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ED7FE-FA1F-488F-81FE-4050624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4E16D-BC59-44B8-8F33-B505D5DE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B4670-DAE9-4365-8871-CDF71A92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6A1E2-D6F6-46DC-842F-7399AD2A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68EF-08FA-48A5-8E05-21957EF3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15B5-C63E-449C-89F7-DA3DA98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6B96-6D4F-4B57-83EB-5C9410ED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2B9A-A685-4AE4-BBB9-0D49E285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D8CF-2DE4-4708-ADA7-55FC3E69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197-D8F9-4E6C-BC76-7AA187F9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952B-39B5-4D7C-872F-6B3BBF80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62B1-DA55-4F9B-A3D9-60AF9A9E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C1E7-EB04-4B42-B89C-9F80BCA9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68A8-2186-44E2-9A4D-ECCCC83E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4886-D1EB-484D-94BB-426274E9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02E0-B66D-4911-AE65-015443F4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1F16-6913-4046-8C90-56E14072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B8253-B6BB-4AAB-A79A-8B9655D8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9785EF-8D85-45AB-80E7-0220D2DC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87740-8327-44EE-BF0E-EFE7644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ED7-0D3C-4F8C-A902-01D27C55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29313-7F40-44EE-8451-C2CA307E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A5489-1488-4F3D-A51F-B0A8E8FD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BB00F-90A7-4112-9147-59B86069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71289-28E5-4508-93ED-443A461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B4AF9-8FA5-4E3E-A1EC-9064DD05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D6A69-01B5-4D53-9616-1608FA19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B0801-C129-4F58-AEE5-9BA97D3A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0A595-338A-4213-8EE5-BE0662A7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9ECF3-8164-4B87-86CF-975A89A8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EDC-9667-444D-B543-AE0CC1CE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E80-52FA-4A9D-9DCD-7AFFB0EA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C92-46E1-45DF-9EFE-41A0763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5E8-1BFA-4115-9FAD-DBFE5A23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6D2-5EEF-475A-825D-5261669D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507E-5C61-4AD4-88EC-D58791DE1774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9E9-30A2-478C-B532-F4DCCCB9C515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77D8-93AD-4607-81E2-40810FAB108F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8302-D358-4452-8807-77C0ED1D83AE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mycampuslink.com/secure/staff/loginsta.aspx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rn.net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Constantia"/>
              </a:rPr>
              <a:t>Faculty In-Service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Constantia"/>
              </a:rPr>
              <a:t>Saturday, October 9, 201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Constantia"/>
              </a:rPr>
              <a:t>9:00 am – 12:00 p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ortis College Logo.tif"/>
          <p:cNvPicPr/>
          <p:nvPr/>
        </p:nvPicPr>
        <p:blipFill>
          <a:blip r:embed="rId2"/>
          <a:stretch/>
        </p:blipFill>
        <p:spPr>
          <a:xfrm>
            <a:off x="1633680" y="244440"/>
            <a:ext cx="59673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:00 am – 9:05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:06 am – 9:50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dam Misner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(Campus Portal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:51 am – 10:05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uestion and Answer S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0:06 am – 10:50 am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ephenie Rostron (LR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0:51 am – 11:05 am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uestion and Answer S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:06 am – 11:35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rnando Smith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Network Sharing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:36 am – 11:45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uestion and Answer S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:46 am – 12:00 p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rry Farris (Web Tool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me Saving T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T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actical Us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mycampuslink.com/secure/staff/loginsta.aspx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3524400" y="4548240"/>
            <a:ext cx="5205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’s and Can not's with the LRC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media Avail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arning Information Resource Network (LIRN) (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lirn.n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stball (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http://www.dustball.com/cs/plagiarism.checker/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5327640" y="3591000"/>
            <a:ext cx="39322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ernand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twork Shar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Terr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ogle (www.google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iki’s (www.wikispaces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gs (www.blogger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cial Media (www.facebook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kype (www.skype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5205240" y="1292400"/>
            <a:ext cx="3664080" cy="1779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>
            <a:off x="8132760" y="5973840"/>
            <a:ext cx="474840" cy="549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6834240" y="2908440"/>
            <a:ext cx="1474560" cy="39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5"/>
          <a:stretch/>
        </p:blipFill>
        <p:spPr>
          <a:xfrm>
            <a:off x="6145200" y="3687840"/>
            <a:ext cx="1461960" cy="519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6"/>
          <a:stretch/>
        </p:blipFill>
        <p:spPr>
          <a:xfrm>
            <a:off x="7412040" y="4486320"/>
            <a:ext cx="10555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8:12:21Z</dcterms:created>
  <dc:creator>Terry R. Farris, MBA</dc:creator>
  <dc:description/>
  <dc:language>en-US</dc:language>
  <cp:lastModifiedBy>Terry R. Farris, MBA</cp:lastModifiedBy>
  <dcterms:modified xsi:type="dcterms:W3CDTF">2010-10-09T11:50:31Z</dcterms:modified>
  <cp:revision>10</cp:revision>
  <dc:subject/>
  <dc:title>Technology in the Classroom</dc:title>
</cp:coreProperties>
</file>